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CC6-69FB-453B-8511-E5346954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1B1-BC21-4B34-9626-3E9FDF84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D26-6C8A-402C-9C98-B35A82D9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4A8-F21C-413D-9649-C4E55F43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492-78C8-456E-AB9F-42642B88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DD1-E7DD-4E2F-919F-8C993B27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087-AB86-425A-ACC8-9129CB89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C96-34F5-4391-8F19-54A50324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9FE-43C0-4864-AD8C-E43C51D6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A03-F14A-44F3-BEF6-270D091D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7F8-7693-4702-8F80-9CB644E9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BB5-212F-45D2-B916-491F9E39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203D-08A9-4E61-AD9A-A6D3CFC95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31 Ježiša kto má rá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e mnohý aj z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raz prežíva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i myslí, že ťažké je ž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le láskav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mu silu dá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tu šťastný byť sm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ch kto mil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si Pána vie nad všetko c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á čoho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 vždy dôver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ho s dôverou hľaď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a kto má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ho nasled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že životom bezpečne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oho radosť Pán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mu poznať sa d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Ježišom mizne str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ny tiesnivý m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ochotný každ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zm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mu mierni Pán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háňa úzkosť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čo nás su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ápi poni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ie zo strastí vyslobod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hoc tŕnis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 vždy za Krist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03:29Z</dcterms:modified>
  <cp:revision>21</cp:revision>
  <dc:subject/>
  <dc:title>Je veľký náš Pán, on slávy je Kráľ Nech do všetkých strán  spev vrúcnych znie chvál.</dc:title>
</cp:coreProperties>
</file>